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C92-27BF-448D-A832-4C4DC3A0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45A-792E-464F-8B3F-A00E6800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BFA-D712-40F8-8890-D8717E6C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941-AD70-42C3-BF7E-C25D6CE3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286-C8C3-4824-BF32-372B6AA9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091-FBD6-465A-A56F-DD3D11E4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F5C-7F03-46C5-8EFE-E87CB09F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BB0-E23E-43D7-98F2-C7F6619A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D97-236D-41B4-B679-AF50959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2DA-27A2-48A8-9E98-8A446F8D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224-6DE6-427B-9302-29483CF2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9B0-AA40-41E0-AFE0-F10115C3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28B3-5E7A-4075-B77D-5DCC5B8BD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freewebhowto.com/Metallic-Styles-in-Phot/1.jpg&amp;imgrefurl=http://freewebhowto.com/publ/5-1-0-369&amp;usg=__rpJw-S7n9ZszDn_xlm2I88v7gUI=&amp;h=500&amp;w=500&amp;sz=4&amp;hl=en&amp;start=2&amp;itbs=1&amp;tbnid=O-V51I2RGd7XfM:&amp;tbnh=130&amp;tbnw=130&amp;prev=/images%3Fq%3Dlight%2Bgreen%2Bbackground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/imgres?imgurl=http://www.mpfa.ie/images/camille_pissarro_pontoise.jpg&amp;imgrefurl=http://www.mpfa.ie/pissarro.htm&amp;usg=__QgaF2oeXyMr5ThBWLLAj6nu5a7s=&amp;h=293&amp;w=350&amp;sz=31&amp;hl=en&amp;start=2&amp;itbs=1&amp;tbnid=R4GDBJFMG_hPMM:&amp;tbnh=100&amp;tbnw=120&amp;prev=/images%3Fq%3Dcamille%2Bpissarro%26hl%3Den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google.com/imgres?imgurl=http://www.abcgallery.com/P/pissaro/pissaro30.JPG&amp;imgrefurl=http://www.abcgallery.com/P/pissaro/pissaro30.html&amp;usg=__67u4S9HUwA9zj3UgNG4ZiRXt61g=&amp;h=511&amp;w=640&amp;sz=31&amp;hl=en&amp;start=3&amp;itbs=1&amp;tbnid=M5DLYiHUCCrQDM:&amp;tbnh=109&amp;tbnw=137&amp;prev=/images%3Fq%3Dcamille%2Bpissarro%26hl%3Den%26gbv%3D2%26tbs%3Disch:1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ogle.com/imgres?imgurl=http://www.abcgallery.com/P/pissaro/pissaro8.JPG&amp;imgrefurl=http://www.abcgallery.com/P/pissaro/pissaro8.html&amp;usg=__yCpRECNzb5mYBoJVoaAcBzJQWDA=&amp;h=521&amp;w=697&amp;sz=36&amp;hl=en&amp;start=13&amp;itbs=1&amp;tbnid=zAgwGnYiHpCVoM:&amp;tbnh=104&amp;tbnw=139&amp;prev=/images%3Fq%3Dcamille%2Bpissarro%26hl%3Den%26gbv%3D2%26tbs%3Disch:1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www.google.com/imgres?imgurl=http://www.fabulousmasterpieces.co.uk/userimages/Camille_Pissarro_Church_at_Kew.jpg&amp;imgrefurl=http://danb16.blogspot.com/2009_04_01_archive.html&amp;usg=__VB18Hj40dJ97J2VvCYdO5oJSrI8=&amp;h=640&amp;w=531&amp;sz=114&amp;hl=en&amp;start=7&amp;itbs=1&amp;tbnid=ixoVLzInbODB8M:&amp;tbnh=137&amp;tbnw=114&amp;prev=/images%3Fq%3Dcamille%2Bpissarro%2Bpaintings%26hl%3Den%26gbv%3D2%26tbs%3Disch:1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www.google.com/imgres?imgurl=http://impressionist1877.tripod.com/Pissarro-Red_Roofs_1877.jpg&amp;imgrefurl=http://impressionist1877.tripod.com/pissarro.htm&amp;usg=__cjd9oWnwqE34OZt8WzWlgq34M5E=&amp;h=835&amp;w=1018&amp;sz=263&amp;hl=en&amp;start=5&amp;itbs=1&amp;tbnid=GmTnqtPxEh49IM:&amp;tbnh=123&amp;tbnw=150&amp;prev=/images%3Fq%3Dpissarro%2Bpaintings%26hl%3Den%26gbv%3D2%26tbs%3Disch:1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www.google.com/imgres?imgurl=http://www.fabulousmasterpieces.co.uk/userimages/pissarro101.jpg&amp;imgrefurl=http://www.fabulousmasterpieces.co.uk/page4.htm&amp;usg=__sotYauUpfvYXtudjSV1tp6h-kKM=&amp;h=373&amp;w=463&amp;sz=59&amp;hl=en&amp;start=4&amp;itbs=1&amp;tbnid=A2cULHI6EHF0AM:&amp;tbnh=103&amp;tbnw=128&amp;prev=/images%3Fq%3Dpissarro%2Bpaintings%26hl%3Den%26gbv%3D2%26tbs%3Disch:1" TargetMode="Externa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rtgallery.nsw.gov.au/sub/pissarro/IMAGES/IMAGE415/fullPortrait1.jpg&amp;imgrefurl=http://www.artgallery.nsw.gov.au/sub/pissarro/caption_tours.html&amp;usg=__IGAUyrfyuSn1-BG13UrN8n1oGak=&amp;h=615&amp;w=415&amp;sz=42&amp;hl=en&amp;start=3&amp;itbs=1&amp;tbnid=p3LuNbc-u01ENM:&amp;tbnh=136&amp;tbnw=92&amp;prev=/images%3Fq%3Dpictures%2Bof%2Bcamille%2Bpissarro%26hl%3Den%26gbv%3D2%26tbs%3Disch: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google.com/imgres?imgurl=http://www.camillepissarro.com/images/pissarro_self.jpg&amp;imgrefurl=http://www.camillepissarro.com/&amp;usg=__3rZYIOmPAcrRpHlfpq9LkL9-C_k=&amp;h=750&amp;w=587&amp;sz=56&amp;hl=en&amp;start=10&amp;itbs=1&amp;tbnid=51BBq9kOnLDiRM:&amp;tbnh=141&amp;tbnw=110&amp;prev=/images%3Fq%3Dpictures%2Bof%2Bcamille%2Bpissarro%26hl%3Den%26gbv%3D2%26tbs%3Disch: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google.com/imgres?imgurl=http://www.tate.org.uk/collection/N/N04/N04592_9.jpg&amp;imgrefurl=http://www.tate.org.uk/servlet/ViewWork%3Fworkid%3D12076%26tabview%3Dimage&amp;usg=__5PPeMaKPofl2W-ZMxN-TqyQj6FM=&amp;h=512&amp;w=406&amp;sz=32&amp;hl=en&amp;start=4&amp;itbs=1&amp;tbnid=nHUrkAs-2M5lFM:&amp;tbnh=131&amp;tbnw=104&amp;prev=/images%3Fq%3Dportraits%2Bof%2Bcamille%2Bpissarro%26hl%3Den%26sa%3DX%26gbv%3D2%26tbs%3Disch:1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www.google.com/imgres?imgurl=http://www.supercoloring.com/wp-content/main/2009_12/Self-Portrait-by-Camille-Pissarro-coloring-page.jpg&amp;imgrefurl=http://www.supercoloring.com/pages/self-portrait-by-camille-pissarro/&amp;usg=__LNrgsn-MHAmNvFrLtZN_dttudZ0=&amp;h=350&amp;w=300&amp;sz=46&amp;hl=en&amp;start=7&amp;itbs=1&amp;tbnid=-_KHndkWxehhkM:&amp;tbnh=120&amp;tbnw=103&amp;prev=/images%3Fq%3Dportraits%2Bof%2Bcamille%2Bpissarro%26hl%3Den%26sa%3DX%26gbv%3D2%26tbs%3Disch:1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www.google.com/imgres?imgurl=http://communitas.princeton.edu/blogs/writingart10/images/self_portrait.jpg&amp;imgrefurl=http://blogs.princeton.edu/writingart10/archives/2005/01/camille_pissarr.html&amp;usg=__wdw6R2vXa66GV0DAUXUdauy1dIg=&amp;h=366&amp;w=277&amp;sz=29&amp;hl=en&amp;start=7&amp;itbs=1&amp;tbnid=JfkunoHv0ipZoM:&amp;tbnh=122&amp;tbnw=92&amp;prev=/images%3Fq%3Dself%2Bportraits%2Bof%2Bcamille%2Bpissarro%26hl%3Den%26gbv%3D2%26tbs%3Disch:1" TargetMode="Externa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07696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1370160"/>
            <a:ext cx="7084800" cy="37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100000">
                      <a:srgbClr val="00ff00"/>
                    </a:gs>
                  </a:gsLst>
                  <a:lin ang="13500000"/>
                </a:gradFill>
                <a:latin typeface="Impact"/>
              </a:rPr>
              <a:t>Camille Pissar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f7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325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0"/>
            <a:ext cx="2819520" cy="2408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62520" y="2362320"/>
            <a:ext cx="297180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0" y="213372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962520" y="502920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58000" y="5018040"/>
            <a:ext cx="2286000" cy="1839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320040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some of Camille Pissarro painting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6073"/>
            </a:gs>
            <a:gs pos="50000">
              <a:srgbClr val="06d1fa"/>
            </a:gs>
            <a:gs pos="100000">
              <a:srgbClr val="02607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mille Pissarro was born on July 10, 1830 in the Virgin Islands and passed away on November 13, 1903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parents sent him to a boarding school in Paris, Fran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ce he came back his parents did not want him to paint. So they forced him to work as a clerk in his Father’s sto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didn’t enjoy it. So he ran away to pursue his career as a pain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28958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caf7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other Impressionists, such as Monet and Renoir, Pissarro dealt with a financial struggle while he sought to make his living pai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irst son, Lucien, was born to him shortly after he moved to France by Julie Vellay, whom he eventually married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n early age, Camille Pissarro had a family to support, and often his only source of income, besides what little he made on his pain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aintings were realistic stil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00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2666880"/>
            <a:ext cx="2362320" cy="281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248112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0"/>
            <a:ext cx="258156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124080"/>
            <a:ext cx="2971800" cy="3124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676520" y="3048120"/>
            <a:ext cx="55720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3333"/>
                </a:solidFill>
                <a:latin typeface="Impact"/>
              </a:rPr>
              <a:t>These are some self portrait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3333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14560" y="4267080"/>
            <a:ext cx="363852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3333"/>
                </a:solidFill>
                <a:latin typeface="Impact"/>
              </a:rPr>
              <a:t>of Camille Pissarro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3333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5320" y="1100160"/>
            <a:ext cx="55533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52:54Z</dcterms:created>
  <dc:creator>Computer Lab</dc:creator>
  <dc:description/>
  <dc:language>en-US</dc:language>
  <cp:lastModifiedBy>Computer Lab</cp:lastModifiedBy>
  <dcterms:modified xsi:type="dcterms:W3CDTF">2010-05-18T18:39:09Z</dcterms:modified>
  <cp:revision>7</cp:revision>
  <dc:subject/>
  <dc:title>Slide 1</dc:title>
</cp:coreProperties>
</file>